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56A-2E23-4727-A060-4CDD0755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1F3-BF23-4BFD-91A9-88895341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6BA-255D-48A1-BA71-1E54C999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B28-3CF8-4ACC-8798-391A39BE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2CE-893B-4617-B6C5-7AB9DE81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7DD-02AC-4A26-81F2-406E9AAD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7A0-DAB8-42F5-A241-582E6D70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760-0D3F-4611-BCFA-739C77DB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20F-16A2-498E-A459-689754E4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6F0-E290-45AD-BF28-EE0BCF62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36E-8C67-43CA-BDD8-A9EFDDF0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BF6-D73C-4108-A144-94749E88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ABD2-33C1-4835-84CE-58B0627D4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Re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Reassessment9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ildReassessment10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Reassessment11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ildReassessment12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ildReassessment1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Reassessment1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Reassessment2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Reassessment3.jpg"/>
          <p:cNvPicPr/>
          <p:nvPr/>
        </p:nvPicPr>
        <p:blipFill>
          <a:blip r:embed="rId1"/>
          <a:stretch/>
        </p:blipFill>
        <p:spPr>
          <a:xfrm>
            <a:off x="752400" y="828720"/>
            <a:ext cx="7639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Reassessment4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ildReassessment5.jpg"/>
          <p:cNvPicPr/>
          <p:nvPr/>
        </p:nvPicPr>
        <p:blipFill>
          <a:blip r:embed="rId1"/>
          <a:stretch/>
        </p:blipFill>
        <p:spPr>
          <a:xfrm>
            <a:off x="757080" y="819000"/>
            <a:ext cx="762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Reassessment6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Reassessment7.jpg"/>
          <p:cNvPicPr/>
          <p:nvPr/>
        </p:nvPicPr>
        <p:blipFill>
          <a:blip r:embed="rId1"/>
          <a:stretch/>
        </p:blipFill>
        <p:spPr>
          <a:xfrm>
            <a:off x="781200" y="838080"/>
            <a:ext cx="7581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Reassessment8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33:08Z</dcterms:created>
  <dc:creator>zcui</dc:creator>
  <dc:description/>
  <dc:language>en-US</dc:language>
  <cp:lastModifiedBy>rbalne</cp:lastModifiedBy>
  <dcterms:modified xsi:type="dcterms:W3CDTF">2009-08-12T13:57:34Z</dcterms:modified>
  <cp:revision>1</cp:revision>
  <dc:subject/>
  <dc:title>TRAC</dc:title>
</cp:coreProperties>
</file>